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C96C-F508-4F92-AEF8-47D7111D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4F72-04C7-46F8-8709-B19D5D53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980F-79FE-4E26-806A-F32EDF7C0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6A34-3F99-4CFA-A3EB-8A0F12B0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104D-D933-4707-B2C5-097473F4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1DCE-B7F6-4983-9035-850E2DAD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ACCB-47B8-48F8-8F3D-BABCEF1D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3BBD-1839-4286-AE7F-FF2BE7B5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0A03-7B60-43B1-86CE-BB41CE24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5B6B-B00E-48D4-A4C7-06B61886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3B66-AE1A-44A0-9F10-00B1F3EB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E27E-CA49-4652-95C1-2CBF115D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D6B2-EBD2-4392-A79C-DDCBE8F10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0079653" descr=""/>
          <p:cNvPicPr/>
          <p:nvPr/>
        </p:nvPicPr>
        <p:blipFill>
          <a:blip r:embed="rId1"/>
          <a:stretch/>
        </p:blipFill>
        <p:spPr>
          <a:xfrm>
            <a:off x="-93600" y="0"/>
            <a:ext cx="5765760" cy="7162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257800" y="228600"/>
            <a:ext cx="3886200" cy="78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 (Arabic)"/>
              </a:rPr>
              <a:t>وحدت يا رب لا هوتك بناسوت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 (Arabic)"/>
              </a:rPr>
              <a:t>وناسوتنا بلاهوت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 (Arabic)"/>
              </a:rPr>
              <a:t>حياتك بموت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 (Arabic)"/>
              </a:rPr>
              <a:t>وموتنا بحيات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 (Arabic)"/>
              </a:rPr>
              <a:t>أخذت ما لنا ووهبتنا ما 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 (Arabic)"/>
              </a:rPr>
              <a:t>لتحيينا وتخلص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 (Arabic)"/>
              </a:rPr>
              <a:t>لك المجد إلى الأب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3T04:52:46Z</dcterms:created>
  <dc:creator>USER</dc:creator>
  <dc:description/>
  <dc:language>en-US</dc:language>
  <cp:lastModifiedBy>USER</cp:lastModifiedBy>
  <dcterms:modified xsi:type="dcterms:W3CDTF">2003-02-13T04:52:57Z</dcterms:modified>
  <cp:revision>1</cp:revision>
  <dc:subject/>
  <dc:title>PowerPoint Presentation</dc:title>
</cp:coreProperties>
</file>